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5F2CC-7AC4-48E9-8353-286427CEB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13FA3-A159-4F2C-BC96-7E331CC69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B1E1F-A46A-48F6-9598-5776BDB7C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996EA-0DA4-43C4-AB33-1318CDF5C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343EB-66A0-44DE-9090-B4DB4BA06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80A64-349D-4D95-8B5D-2F809761E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D4672-9DE0-4088-A7FB-0A2D3F47A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B1A3E-FCA0-4484-8447-0C8258D9A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1F6D6-9A7B-479F-BB35-9DFAD7173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D8DE1-070C-401B-BA5A-E80ECDB38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16F46-6E1C-4141-875A-7DD080FA9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BB707-3C73-4B55-9650-D148CEFF4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703F6-3673-4FF1-8220-AABFD8D447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SETTING</a:t>
            </a:r>
            <a:br>
              <a:rPr sz="4400"/>
            </a:b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in </a:t>
            </a:r>
            <a:r>
              <a:rPr b="0" i="1" lang="en-NZ" sz="4400" spc="-1" strike="noStrike">
                <a:solidFill>
                  <a:srgbClr val="000000"/>
                </a:solidFill>
                <a:latin typeface="Arial"/>
              </a:rPr>
              <a:t>The Constant Garden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4360" y="3886200"/>
            <a:ext cx="777528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Essay ques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Analyse how the </a:t>
            </a:r>
            <a:r>
              <a:rPr b="1" lang="en-NZ" sz="2800" spc="-1" strike="noStrike">
                <a:solidFill>
                  <a:srgbClr val="000000"/>
                </a:solidFill>
                <a:latin typeface="Arial"/>
              </a:rPr>
              <a:t>presentation of a setting </a:t>
            </a: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helped to develop an important t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4T06:16:30Z</dcterms:created>
  <dc:creator>egraham</dc:creator>
  <dc:description/>
  <dc:language>en-US</dc:language>
  <cp:lastModifiedBy>egraham</cp:lastModifiedBy>
  <dcterms:modified xsi:type="dcterms:W3CDTF">2009-08-24T07:32:17Z</dcterms:modified>
  <cp:revision>2</cp:revision>
  <dc:subject/>
  <dc:title>SETTING in The Constant Gardener</dc:title>
</cp:coreProperties>
</file>